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943600" y="8763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" name=""/>
          <p:cNvGraphicFramePr/>
          <p:nvPr/>
        </p:nvGraphicFramePr>
        <p:xfrm>
          <a:off x="0" y="239760"/>
          <a:ext cx="6927840" cy="875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9760"/>
                    <a:ext cx="6927840" cy="875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-104760" y="0"/>
          <a:ext cx="70596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4755600" y="5114880"/>
            <a:ext cx="392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63400" y="6469200"/>
            <a:ext cx="984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MARY THO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38520" y="8167680"/>
            <a:ext cx="923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42240" y="8924760"/>
            <a:ext cx="227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40280" y="1114560"/>
            <a:ext cx="1522440" cy="403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67280" y="1081080"/>
            <a:ext cx="180000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 MAR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427040" y="650880"/>
            <a:ext cx="189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ATION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71560" y="650880"/>
            <a:ext cx="96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 of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7880" y="1031760"/>
            <a:ext cx="4921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isle Sheet Metal Outlet, 1030 West 53d Street, Hagan, GA  304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9040" y="141300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FI01-**-C-17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2160" y="1946160"/>
            <a:ext cx="6224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NO.            SUPPLIES/SERVICES              QTY         UNIT       PRICE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84640" y="179388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7360" y="213984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1480" y="2403360"/>
            <a:ext cx="61434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1            Sheet Metal, 20”  x 10”                  500            EA           10.00      $5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2            Rivetter, Standard, Electric              15            EA         245.95      $3,689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3            Rivettes                                            50            BX             8.50      $   42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:    $9,11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08120" y="85215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-104760" y="0"/>
          <a:ext cx="70596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2199240" y="6846840"/>
            <a:ext cx="678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 APR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92000" y="6985080"/>
            <a:ext cx="760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S12, P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8640" y="6431040"/>
            <a:ext cx="678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APR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10280" y="885492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57040" y="6846840"/>
            <a:ext cx="8704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BILL CHAN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11720" y="6431040"/>
            <a:ext cx="8539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PAUL ELLI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87480" y="5200560"/>
            <a:ext cx="1468440" cy="820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07720" y="5364000"/>
            <a:ext cx="132480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71360" y="324000"/>
            <a:ext cx="4173480" cy="300960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83920" y="281160"/>
            <a:ext cx="91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437000" y="522360"/>
            <a:ext cx="2303640" cy="1503360"/>
            <a:chOff x="4437000" y="522360"/>
            <a:chExt cx="2303640" cy="1503360"/>
          </a:xfrm>
        </p:grpSpPr>
        <p:sp>
          <p:nvSpPr>
            <p:cNvPr id="266" name=""/>
            <p:cNvSpPr/>
            <p:nvPr/>
          </p:nvSpPr>
          <p:spPr>
            <a:xfrm>
              <a:off x="4467240" y="522360"/>
              <a:ext cx="2273400" cy="14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467240" y="809640"/>
              <a:ext cx="22622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81640" y="1187280"/>
              <a:ext cx="224928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73720" y="1565280"/>
              <a:ext cx="2260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37000" y="557280"/>
              <a:ext cx="1396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:  1986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92800" y="820800"/>
              <a:ext cx="8445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O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75440" y="938160"/>
              <a:ext cx="998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 APRIL *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01160" y="1319040"/>
              <a:ext cx="1550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RMS:  2/10, N/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46000" y="1571760"/>
              <a:ext cx="8841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74720" y="1700280"/>
              <a:ext cx="14205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FI01-**-C-17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597560" y="2103480"/>
            <a:ext cx="1971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7920" y="409680"/>
            <a:ext cx="3014640" cy="72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LISLE SHEET METAL OUT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30 WEST 53D STR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GAN, GA  304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1880" y="1476360"/>
            <a:ext cx="2302920" cy="81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4280" y="1728720"/>
            <a:ext cx="597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949560" y="2128680"/>
            <a:ext cx="298440" cy="317520"/>
            <a:chOff x="3949560" y="2128680"/>
            <a:chExt cx="298440" cy="317520"/>
          </a:xfrm>
        </p:grpSpPr>
        <p:sp>
          <p:nvSpPr>
            <p:cNvPr id="281" name=""/>
            <p:cNvSpPr/>
            <p:nvPr/>
          </p:nvSpPr>
          <p:spPr>
            <a:xfrm flipV="1">
              <a:off x="4248000" y="2128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49560" y="2436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79360" y="2128680"/>
            <a:ext cx="317520" cy="317520"/>
            <a:chOff x="279360" y="2128680"/>
            <a:chExt cx="317520" cy="317520"/>
          </a:xfrm>
        </p:grpSpPr>
        <p:sp>
          <p:nvSpPr>
            <p:cNvPr id="284" name=""/>
            <p:cNvSpPr/>
            <p:nvPr/>
          </p:nvSpPr>
          <p:spPr>
            <a:xfrm flipV="1">
              <a:off x="285840" y="2128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79360" y="24368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949560" y="1384200"/>
            <a:ext cx="298440" cy="301680"/>
            <a:chOff x="3949560" y="1384200"/>
            <a:chExt cx="298440" cy="301680"/>
          </a:xfrm>
        </p:grpSpPr>
        <p:sp>
          <p:nvSpPr>
            <p:cNvPr id="287" name=""/>
            <p:cNvSpPr/>
            <p:nvPr/>
          </p:nvSpPr>
          <p:spPr>
            <a:xfrm>
              <a:off x="4248000" y="13939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49560" y="1384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822600" y="2546280"/>
            <a:ext cx="3029760" cy="63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OR, ENGINEERING &amp;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DG 611B, ATTN:  MR. 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 STEWART, GA  31314-98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4640" y="2679840"/>
            <a:ext cx="538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876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8760" y="4243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7080" y="3932280"/>
            <a:ext cx="6562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           DESCRIPTION           QUANTITY     UNIT      PRICE        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0000" y="4361040"/>
            <a:ext cx="28044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90640" y="4384800"/>
            <a:ext cx="1871640" cy="2714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T METAL, 20”X10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10120" y="4361040"/>
            <a:ext cx="41904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13200" y="4361040"/>
            <a:ext cx="62784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49560" y="4361040"/>
            <a:ext cx="97560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,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1520" y="4789440"/>
            <a:ext cx="249120" cy="287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1520" y="5214960"/>
            <a:ext cx="249120" cy="287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1520" y="5654520"/>
            <a:ext cx="249120" cy="287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1520" y="6102360"/>
            <a:ext cx="249120" cy="287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5040" y="4789440"/>
            <a:ext cx="1892160" cy="297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05040" y="5205240"/>
            <a:ext cx="1892160" cy="297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05040" y="5626080"/>
            <a:ext cx="1892160" cy="297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05040" y="6083280"/>
            <a:ext cx="1892160" cy="297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02040" y="4371840"/>
            <a:ext cx="825480" cy="292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02040" y="4788000"/>
            <a:ext cx="82548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2040" y="5205240"/>
            <a:ext cx="825480" cy="292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2040" y="5626080"/>
            <a:ext cx="82548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02040" y="6083280"/>
            <a:ext cx="82548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78080" y="4390920"/>
            <a:ext cx="437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21280" y="4788000"/>
            <a:ext cx="415800" cy="280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21280" y="5205240"/>
            <a:ext cx="415800" cy="281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21280" y="5626080"/>
            <a:ext cx="415800" cy="281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21280" y="6083280"/>
            <a:ext cx="415800" cy="281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14920" y="4788000"/>
            <a:ext cx="860400" cy="301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14920" y="5205240"/>
            <a:ext cx="850680" cy="301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14920" y="5626080"/>
            <a:ext cx="844560" cy="301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14920" y="6083280"/>
            <a:ext cx="844560" cy="301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18240" y="4788000"/>
            <a:ext cx="94932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18240" y="5205240"/>
            <a:ext cx="949320" cy="292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8240" y="5626080"/>
            <a:ext cx="94932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18240" y="6083280"/>
            <a:ext cx="94932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2120" y="3892680"/>
            <a:ext cx="0" cy="261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963960" y="3892680"/>
            <a:ext cx="14400" cy="26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06920" y="3890880"/>
            <a:ext cx="3240" cy="261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38680" y="3892680"/>
            <a:ext cx="0" cy="26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86120" y="3892680"/>
            <a:ext cx="4680" cy="26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1360" y="6523200"/>
            <a:ext cx="651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8640" y="6635880"/>
            <a:ext cx="16639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41920" y="6635880"/>
            <a:ext cx="1054080" cy="2444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97440" y="6618240"/>
            <a:ext cx="1230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49560" y="6618240"/>
            <a:ext cx="975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4,837.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08120" y="85978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79360" y="1387440"/>
            <a:ext cx="317520" cy="295200"/>
            <a:chOff x="279360" y="1387440"/>
            <a:chExt cx="317520" cy="295200"/>
          </a:xfrm>
        </p:grpSpPr>
        <p:sp>
          <p:nvSpPr>
            <p:cNvPr id="337" name=""/>
            <p:cNvSpPr/>
            <p:nvPr/>
          </p:nvSpPr>
          <p:spPr>
            <a:xfrm>
              <a:off x="285840" y="1390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79360" y="13874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77640" y="4782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92440" y="4818240"/>
            <a:ext cx="195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TTER, STAN. 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20200" y="47829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00400" y="4782960"/>
            <a:ext cx="419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31480" y="4782960"/>
            <a:ext cx="72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9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49560" y="4782960"/>
            <a:ext cx="975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3,749.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7640" y="52228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93520" y="5253120"/>
            <a:ext cx="928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T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37840" y="522288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18040" y="5222880"/>
            <a:ext cx="419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48200" y="5222880"/>
            <a:ext cx="528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48120" y="5222880"/>
            <a:ext cx="978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    88.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54440" y="2292480"/>
            <a:ext cx="1968480" cy="10540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53800" y="2449440"/>
            <a:ext cx="17769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APR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-104760" y="0"/>
          <a:ext cx="7059600" cy="913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3341880" y="889308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924200" y="574560"/>
            <a:ext cx="2709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/PROGRESS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5160" y="1184400"/>
            <a:ext cx="5433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UATION:  You are a voucher examiner assigned to the Accounts Pay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ch of the Operating Location at Fort Stewart, GA.  You have receiv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ocu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9560" y="1870200"/>
            <a:ext cx="308916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D  1155, Contract (Advance Pay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SF 33, Contract (Progress Pay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Vendors’ Invo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Certificate of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4360" y="3317760"/>
            <a:ext cx="5715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MENT:  You must prepare the payment vouchers for the advanc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payments based on the supporting documents listed above, the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s Register C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31800" y="85215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-104760" y="0"/>
          <a:ext cx="70596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341880" y="1352520"/>
            <a:ext cx="660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8 JA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05120" y="6985080"/>
            <a:ext cx="923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41880" y="885492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18680" y="6878520"/>
            <a:ext cx="675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2,4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35480" y="1668600"/>
            <a:ext cx="1288800" cy="473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86160" y="1666800"/>
            <a:ext cx="164304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 JA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76440" y="5391000"/>
            <a:ext cx="2362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    MO                $200.00         $2,400.0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040280" y="596880"/>
            <a:ext cx="2341440" cy="2667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0040" y="378000"/>
            <a:ext cx="2242080" cy="5824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IICROFILMS INTERNAT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. O. BOX 42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NVER, COLORADO  8022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47400" y="384120"/>
            <a:ext cx="1384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VOICE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082760" y="628560"/>
            <a:ext cx="6296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875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48480" y="938160"/>
            <a:ext cx="535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23640" y="1460520"/>
            <a:ext cx="13125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17880" y="1998720"/>
            <a:ext cx="652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992400" y="2212920"/>
            <a:ext cx="2402280" cy="473040"/>
            <a:chOff x="3992400" y="2212920"/>
            <a:chExt cx="2402280" cy="473040"/>
          </a:xfrm>
        </p:grpSpPr>
        <p:sp>
          <p:nvSpPr>
            <p:cNvPr id="382" name=""/>
            <p:cNvSpPr/>
            <p:nvPr/>
          </p:nvSpPr>
          <p:spPr>
            <a:xfrm>
              <a:off x="4024440" y="2212920"/>
              <a:ext cx="2340720" cy="473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92400" y="2244600"/>
              <a:ext cx="240228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rders will be effective for 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ddressee upon receipt of payment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981960" y="1668600"/>
            <a:ext cx="2383560" cy="279360"/>
            <a:chOff x="3981960" y="1668600"/>
            <a:chExt cx="2383560" cy="279360"/>
          </a:xfrm>
        </p:grpSpPr>
        <p:sp>
          <p:nvSpPr>
            <p:cNvPr id="385" name=""/>
            <p:cNvSpPr/>
            <p:nvPr/>
          </p:nvSpPr>
          <p:spPr>
            <a:xfrm>
              <a:off x="4023360" y="1668600"/>
              <a:ext cx="2342160" cy="266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81960" y="1700280"/>
              <a:ext cx="1370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BT15-**-M-524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982680" y="1135080"/>
            <a:ext cx="2398680" cy="279360"/>
            <a:chOff x="3982680" y="1135080"/>
            <a:chExt cx="2398680" cy="279360"/>
          </a:xfrm>
        </p:grpSpPr>
        <p:sp>
          <p:nvSpPr>
            <p:cNvPr id="388" name=""/>
            <p:cNvSpPr/>
            <p:nvPr/>
          </p:nvSpPr>
          <p:spPr>
            <a:xfrm>
              <a:off x="4038840" y="1135080"/>
              <a:ext cx="2342520" cy="266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82680" y="1166760"/>
              <a:ext cx="87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 JUNE **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563040" y="1193760"/>
            <a:ext cx="8218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L TO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000" y="1486080"/>
            <a:ext cx="2121840" cy="5824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ARTMENT OF THE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1960" y="2343240"/>
            <a:ext cx="1711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IOD OF SUBSCRIPTIO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30920" y="2308320"/>
            <a:ext cx="1219680" cy="247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G ** - JUL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2880" y="3676680"/>
            <a:ext cx="5892840" cy="2048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7560" y="4027320"/>
            <a:ext cx="5888160" cy="2034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1440" y="4378320"/>
            <a:ext cx="5898960" cy="2030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9360" y="3262320"/>
            <a:ext cx="5881680" cy="30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91080" y="4772160"/>
            <a:ext cx="1849320" cy="152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21160" y="3325680"/>
            <a:ext cx="54684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SCRIPTION                           DELIVERY SCHEDULE                       TOTAL C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9360" y="3613320"/>
            <a:ext cx="5881680" cy="1029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2880" y="3952800"/>
            <a:ext cx="588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2600" y="4308480"/>
            <a:ext cx="58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4040" y="4700520"/>
            <a:ext cx="58816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6400" y="3660840"/>
            <a:ext cx="20181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 York Times Microfiche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39600" y="3660840"/>
            <a:ext cx="2015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 Issue per Month @ $2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24320" y="3660840"/>
            <a:ext cx="786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,4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25680" y="4748040"/>
            <a:ext cx="133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tal Due This Bill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4320" y="4748040"/>
            <a:ext cx="786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,4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55800" y="3262320"/>
            <a:ext cx="792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63720" y="3613320"/>
            <a:ext cx="0" cy="10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07000" y="3262320"/>
            <a:ext cx="612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08440" y="3613320"/>
            <a:ext cx="0" cy="10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41880" y="5648400"/>
            <a:ext cx="20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11880" y="871704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75080" y="5962680"/>
            <a:ext cx="1644840" cy="681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40240" y="6056280"/>
            <a:ext cx="180828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2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3440" y="6665760"/>
            <a:ext cx="831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26000" y="6899400"/>
            <a:ext cx="22161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-104760" y="0"/>
          <a:ext cx="70596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5829480" y="5114880"/>
            <a:ext cx="552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 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56760" y="6500880"/>
            <a:ext cx="931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TIM JOHNS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03520" y="8167680"/>
            <a:ext cx="923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41880" y="892476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05280" y="1044720"/>
            <a:ext cx="1601640" cy="473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01840" y="1069920"/>
            <a:ext cx="135684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88600" y="276120"/>
            <a:ext cx="56890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ATION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ROD CONSTRUCTION CO. P.O. BOX 11123 RICHMOND HILL, GA  313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BT15-**-C-01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3640" y="961920"/>
            <a:ext cx="6699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                        SUPPLY/SERVICE                      QTY             U/I            U/P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2440" y="116064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5720" y="126684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118520" y="1266840"/>
            <a:ext cx="27446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ovation of quarters 500-600,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1 Aug-30 Sep **. 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ting, general repairs, plumb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ing, and building supp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gress Payment Authoriz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848200" y="1266840"/>
            <a:ext cx="94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5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19600" y="2409840"/>
            <a:ext cx="325836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IES:  F.O.B.  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P TO:  Director, Engineering and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dg 100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14200" y="3933720"/>
            <a:ext cx="51314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MENT TERMS:  Progress payments will be made upon receip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 of performance for the percentage of work completed, les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ned amount as applicable.  The invoice must contain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23080" y="4924440"/>
            <a:ext cx="376128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it to address (if other than the address giv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 contrac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Date of 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  Extension/F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  Percentage of compl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20320" y="6448320"/>
            <a:ext cx="5350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 TYPE:  This  is a fixed price contract.  The unit price will re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f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0560" y="86043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7560" y="428760"/>
            <a:ext cx="208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UDENT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7000" y="885960"/>
            <a:ext cx="1225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JECTIVE: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0240" y="885960"/>
            <a:ext cx="5571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actical exercise measures your ability to prepare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able vouchers. There are several situations regarding the Prompt 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. You must determine payment due dates, compute discounts and calc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 penalty payments as applic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8080" y="1952640"/>
            <a:ext cx="1053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8360" y="1940040"/>
            <a:ext cx="5489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a voucher examiner assigned to the Accounts Pay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ch at Fort Stewart, GA. You are responsible for receiving and proces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s Payable documents.  The Disbursing Officer is W. C. Cory, LTC, F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7720" y="2854440"/>
            <a:ext cx="2162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L 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0080" y="3184560"/>
            <a:ext cx="596664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Read all student notes very carefully. There are Special instructions on 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assist you in completing this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You will do all required written work in this booklet. Complete the Bi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er Cards and the payment vouchers that apply to the documents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You will have 6 class periods to complete this practical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You may not communicate with other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Upon completion of this practical exercise, see the instructor for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7360" y="4911840"/>
            <a:ext cx="1085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160" y="5194440"/>
            <a:ext cx="5384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answers must be in accordance with DFAS-IN Regulation 37-1 a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pt Payment 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6560" y="5902200"/>
            <a:ext cx="35784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ERIALS REQUIR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Handouts 701 and 7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Supplement and Payment Due Date 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Calc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Pe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Student notes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39000" y="8604360"/>
            <a:ext cx="208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484960" y="4578480"/>
            <a:ext cx="120780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87680" y="3282840"/>
            <a:ext cx="2311560" cy="2937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09840" y="3282840"/>
            <a:ext cx="1763640" cy="2937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0080" y="3284640"/>
            <a:ext cx="212076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240" y="770040"/>
            <a:ext cx="6743520" cy="18176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7600" y="863640"/>
            <a:ext cx="6562800" cy="16333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0280" y="1498680"/>
            <a:ext cx="7437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ILL 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870840" y="1270080"/>
            <a:ext cx="3155040" cy="736560"/>
            <a:chOff x="870840" y="1270080"/>
            <a:chExt cx="3155040" cy="736560"/>
          </a:xfrm>
        </p:grpSpPr>
        <p:sp>
          <p:nvSpPr>
            <p:cNvPr id="449" name=""/>
            <p:cNvSpPr/>
            <p:nvPr/>
          </p:nvSpPr>
          <p:spPr>
            <a:xfrm>
              <a:off x="895320" y="1270080"/>
              <a:ext cx="3130560" cy="736560"/>
            </a:xfrm>
            <a:prstGeom prst="rect">
              <a:avLst/>
            </a:prstGeom>
            <a:solidFill>
              <a:srgbClr val="cecec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70840" y="1282680"/>
              <a:ext cx="290340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PARTMENT OF THE ARM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RECTOR OF ENGINEERING AND HOU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TTN:  BLDG 100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RT STEWART, GA  313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4395960" y="1038240"/>
            <a:ext cx="2097000" cy="1136520"/>
            <a:chOff x="4395960" y="1038240"/>
            <a:chExt cx="2097000" cy="1136520"/>
          </a:xfrm>
        </p:grpSpPr>
        <p:grpSp>
          <p:nvGrpSpPr>
            <p:cNvPr id="452" name=""/>
            <p:cNvGrpSpPr/>
            <p:nvPr/>
          </p:nvGrpSpPr>
          <p:grpSpPr>
            <a:xfrm>
              <a:off x="4425840" y="1038240"/>
              <a:ext cx="2057400" cy="1136520"/>
              <a:chOff x="4425840" y="1038240"/>
              <a:chExt cx="2057400" cy="1136520"/>
            </a:xfrm>
          </p:grpSpPr>
          <p:sp>
            <p:nvSpPr>
              <p:cNvPr id="453" name=""/>
              <p:cNvSpPr/>
              <p:nvPr/>
            </p:nvSpPr>
            <p:spPr>
              <a:xfrm>
                <a:off x="4432320" y="1038240"/>
                <a:ext cx="2050920" cy="1136520"/>
              </a:xfrm>
              <a:prstGeom prst="rect">
                <a:avLst/>
              </a:prstGeom>
              <a:solidFill>
                <a:srgbClr val="cecec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425840" y="1298520"/>
                <a:ext cx="204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438800" y="1743120"/>
                <a:ext cx="2044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4398120" y="1044720"/>
              <a:ext cx="1293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MBER:  6739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95960" y="1305000"/>
              <a:ext cx="14904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ILLED:  16 JUNE **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97400" y="1749600"/>
              <a:ext cx="20955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MBER:  DABT15-**-C-015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28600" y="1133640"/>
            <a:ext cx="222120" cy="225360"/>
            <a:chOff x="228600" y="1133640"/>
            <a:chExt cx="222120" cy="225360"/>
          </a:xfrm>
        </p:grpSpPr>
        <p:sp>
          <p:nvSpPr>
            <p:cNvPr id="460" name=""/>
            <p:cNvSpPr/>
            <p:nvPr/>
          </p:nvSpPr>
          <p:spPr>
            <a:xfrm>
              <a:off x="235080" y="11336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8600" y="114300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032360" y="1057320"/>
            <a:ext cx="234720" cy="237600"/>
            <a:chOff x="4032360" y="1057320"/>
            <a:chExt cx="234720" cy="237600"/>
          </a:xfrm>
        </p:grpSpPr>
        <p:sp>
          <p:nvSpPr>
            <p:cNvPr id="463" name=""/>
            <p:cNvSpPr/>
            <p:nvPr/>
          </p:nvSpPr>
          <p:spPr>
            <a:xfrm flipH="1">
              <a:off x="4032360" y="1057320"/>
              <a:ext cx="23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65640" y="1067040"/>
              <a:ext cx="0" cy="22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037040" y="1897200"/>
            <a:ext cx="241200" cy="241200"/>
            <a:chOff x="4037040" y="1897200"/>
            <a:chExt cx="241200" cy="241200"/>
          </a:xfrm>
        </p:grpSpPr>
        <p:sp>
          <p:nvSpPr>
            <p:cNvPr id="466" name=""/>
            <p:cNvSpPr/>
            <p:nvPr/>
          </p:nvSpPr>
          <p:spPr>
            <a:xfrm flipV="1">
              <a:off x="4276800" y="18972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4037040" y="2131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25360" y="1891800"/>
            <a:ext cx="225360" cy="241560"/>
            <a:chOff x="225360" y="1891800"/>
            <a:chExt cx="225360" cy="241560"/>
          </a:xfrm>
        </p:grpSpPr>
        <p:sp>
          <p:nvSpPr>
            <p:cNvPr id="469" name=""/>
            <p:cNvSpPr/>
            <p:nvPr/>
          </p:nvSpPr>
          <p:spPr>
            <a:xfrm flipV="1">
              <a:off x="225360" y="189180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5080" y="213192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043000" y="239760"/>
            <a:ext cx="266400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 OF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440" y="29718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440" y="321804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040" y="3000240"/>
            <a:ext cx="6640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SERVICES                      ESTIMATED COST                         PERCENTAGE OF COMPLE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7920" y="3322800"/>
            <a:ext cx="211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OVATE QUARTERS 500-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93960" y="3317760"/>
            <a:ext cx="94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5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0" y="331776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2160" y="3657600"/>
            <a:ext cx="6664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5920" y="3733920"/>
            <a:ext cx="6665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1040" y="3927600"/>
            <a:ext cx="2554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CLAIMED FOR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21600" y="3914640"/>
            <a:ext cx="3721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 MAY - 15 JUNE ** = $35,000.00 X 25%   =            $8,75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8160" y="4232160"/>
            <a:ext cx="2679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RETAINED PERCENTAGE @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16920" y="4237200"/>
            <a:ext cx="373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                                                                    =        $   87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60760" y="4613400"/>
            <a:ext cx="1231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AMOU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28040" y="4613400"/>
            <a:ext cx="785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7,87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35480" y="4578480"/>
            <a:ext cx="204444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1040" y="4994280"/>
            <a:ext cx="254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ING CLASSIFIC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91280" y="4998960"/>
            <a:ext cx="4221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*7025  76-9505  192131.13-257H W91DEH*01550724/ZKJD  S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1040" y="5375160"/>
            <a:ext cx="87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D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60120" y="5397480"/>
            <a:ext cx="17528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 &amp; J PAINTING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35 ROCKLAND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MBROKE, GA  313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00440" y="5854680"/>
            <a:ext cx="1757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 JOHNSON, FORE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17240" y="5603760"/>
            <a:ext cx="1204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TIM JOHN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13360" y="5608800"/>
            <a:ext cx="148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2120" y="6289560"/>
            <a:ext cx="1435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97600" y="6311880"/>
            <a:ext cx="4456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 CERTIFY THE SERVICES LISTED ON THIS INVOICE ARE AN ACCU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PRESENTATION OF SERVICES PERFORM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VICES ACCEPTED 15 JUNE **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6440" y="7284960"/>
            <a:ext cx="2225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16520" y="7280280"/>
            <a:ext cx="2368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. D. 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ERING AND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 STEWART, 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55480" y="8674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58000" y="7051680"/>
            <a:ext cx="97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. D. 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65640" y="5364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64280" y="5416560"/>
            <a:ext cx="1206360" cy="673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20360" y="5540400"/>
            <a:ext cx="1289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DE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15960" y="7397640"/>
            <a:ext cx="1593720" cy="5209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9600" y="7378560"/>
            <a:ext cx="23922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67080" y="2971800"/>
            <a:ext cx="3240" cy="70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240" cy="70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-104760" y="0"/>
          <a:ext cx="7059600" cy="913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3275280" y="892476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421640" y="345960"/>
            <a:ext cx="3689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MENTS CONTRACT/DELIVERY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0480" y="803160"/>
            <a:ext cx="5433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UATION:  You are a voucher examiner assigned to the Accounts Pay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ch of the Operating Location at Fort Stewart, GA.  You have receiv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ocu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05680" y="1488960"/>
            <a:ext cx="435276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SF 33, Solicitation &amp; Award (Requirements Contra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D 1155, Order for Supplies or Services (Delivery Or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DD Forms 250, Material Inspection and Receiving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Vendor’s In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9760" y="2936880"/>
            <a:ext cx="5811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MENT:  You must prepare the payment voucher based on the sup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listed above, then update the Bills Register C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331800" y="8674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-104760" y="0"/>
          <a:ext cx="70596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4620600" y="5114880"/>
            <a:ext cx="392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60080" y="6500880"/>
            <a:ext cx="116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ROBERT GURRE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638520" y="8163000"/>
            <a:ext cx="923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41880" y="892476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241880" y="1044720"/>
            <a:ext cx="1466640" cy="54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92360" y="1090440"/>
            <a:ext cx="135684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049400" y="422280"/>
            <a:ext cx="5005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ATION SHEET                                                   PAGE 2 OF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6120" y="727200"/>
            <a:ext cx="5517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ME PARTS AND SUPPLIES, INC.  1011 MAIN ST., CLAXTON, GA   304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0440" y="103176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FI01-**-C-08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34280" y="1413000"/>
            <a:ext cx="6651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NO.                   SUPPLIES/SERVICES                QTY         UNIT       PRICE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89480" y="122544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1120" y="16002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5160" y="1717560"/>
            <a:ext cx="47383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r parts for government vehicles located on Fort Stewart, G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rdance with the specifications &amp; provisions contained her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period 1 Jun ** - 31 May **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17360" y="2403360"/>
            <a:ext cx="670428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1    Repair parts for Chrysler Products.  4 door sedan, 19**.                                   $25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ment parts to include:  Tires, engine replacement par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ust system parts, body parts, axles, tie rods, electronic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s, brake replacement supplies, 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7000" y="3470400"/>
            <a:ext cx="67165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2    Repair parts for Ford motor products.  Truck, van (panel &amp; cargo)                    $25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**.  Replacement parts to include:  Tires, engine, re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, exhaust system parts, body parts, axles, tie rods, electro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r supplies, brake replacement supplies, 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9520" y="4537080"/>
            <a:ext cx="49107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1:  Bidder agrees to obtain parts, when not available with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able time period.  Ordering parts will not increas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ed pr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8080" y="5299200"/>
            <a:ext cx="5350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2:  Pricing:  The government will obtain parts at the price offered to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customers or 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14480" y="5908680"/>
            <a:ext cx="541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3:  Shipping:  Freight expenses will be included in the offered price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.  Free on board to dest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10000" y="6442200"/>
            <a:ext cx="28090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p to addres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91st Mechanized Infantry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N:  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d Medical Support Batta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N:  USAR Reserv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08120" y="8674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049400" y="422280"/>
            <a:ext cx="5005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ATION SHEET                                                   PAGE 3 OF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6120" y="727200"/>
            <a:ext cx="5517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ME PARTS AND SUPPLIES, INC.  1011 MAIN ST., CLAXTON, GA   304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0440" y="103176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FI01-**-C-08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4280" y="1413000"/>
            <a:ext cx="6651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NO.                   SUPPLIES/SERVICES                QTY         UNIT       PRICE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41120" y="160020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89480" y="122544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9800" y="1793880"/>
            <a:ext cx="439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4:  Individual Delivery Orders will be issued when par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upplies have been or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0520" y="2479680"/>
            <a:ext cx="427500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5:  Inspection and Acceptance:  The parts or supp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 accepted in proper condition and dee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able by the receiving activity.  The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arts or supplies is the responsibility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dor until acceptance is acknowledged by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zed government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0520" y="3862440"/>
            <a:ext cx="388764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6:  The vendor’s invoice will contain at leas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it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Vendor’s date of inv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Contract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Description of supplies or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Extension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08120" y="8674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"/>
          <p:cNvGraphicFramePr/>
          <p:nvPr/>
        </p:nvGraphicFramePr>
        <p:xfrm>
          <a:off x="-104760" y="0"/>
          <a:ext cx="70596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>
            <a:off x="3275640" y="1357200"/>
            <a:ext cx="678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JUNE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05120" y="6985080"/>
            <a:ext cx="923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07240" y="892476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5680" y="6240600"/>
            <a:ext cx="1612800" cy="54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30080" y="6286680"/>
            <a:ext cx="135684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341440" y="270000"/>
            <a:ext cx="197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ATION SHE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76120" y="574560"/>
            <a:ext cx="5517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ME PARTS AND SUPPLIES, INC.  1011 MAIN ST., CLAXTON, GA   304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7920" y="879480"/>
            <a:ext cx="180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FI01-**-C-0825/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34280" y="1260360"/>
            <a:ext cx="6651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NO.                   SUPPLIES/SERVICES                QTY         UNIT       PRICE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289480" y="107316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1120" y="144792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96640" y="1641600"/>
            <a:ext cx="39823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Delivery 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IP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1/91ST MECHANIZED INFANTRY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N:  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3240" y="2708280"/>
            <a:ext cx="65167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1              Tires, Uniroyal, 15”, Sedan                      25             EA         45.90      $1,147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2               Radiator, Serial #512900                        10             EA         52.15      $   521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3               Tires, Uniroyal, 16” Cargo Van               10             EA         44.95      $   449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26040" y="36576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40080" y="3774960"/>
            <a:ext cx="1612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:     $2,118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70840" y="398628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TEMS ARE CHARGEABLE TO FUND CI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*2020  76-9505  111011.00-26EB  W91TMP*1560825/A111  S090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576800" y="4765680"/>
            <a:ext cx="3593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IP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23D MEDICAL SUPPORT BATTA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R RESERV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4680" y="5527800"/>
            <a:ext cx="65138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1              Tires, Uniroyal, 15”, Sedan                      25             EA         45.90      $1,147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2               Tires, Uniroyal, 16”  Cargo Van              10             EA         44.95       $  449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3               Exhaust Pipes, Serial #52347                20             EA         24.86      $   497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52680" y="6594480"/>
            <a:ext cx="1612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:     $2,094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26040" y="647712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70840" y="711036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TEMS ARE CHARGEABLE TO FUND CI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*2080  76-9601  512914.00-26EB  W91TMP*1560825/A526  S090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191600" y="7966080"/>
            <a:ext cx="327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Deliver to FOB point by:  15 June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331800" y="88264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-104760" y="0"/>
          <a:ext cx="70596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4418280" y="6462720"/>
            <a:ext cx="666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170680" y="6431040"/>
            <a:ext cx="977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Lucida Handwriting"/>
              </a:rPr>
              <a:t>TOMAS 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440520" y="892476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022480" y="5270400"/>
            <a:ext cx="1482840" cy="6112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81160" y="5348160"/>
            <a:ext cx="172872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8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"/>
          <p:cNvGraphicFramePr/>
          <p:nvPr/>
        </p:nvGraphicFramePr>
        <p:xfrm>
          <a:off x="-304920" y="-304920"/>
          <a:ext cx="7459920" cy="956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-304920"/>
                    <a:ext cx="7459920" cy="9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"/>
          <p:cNvSpPr/>
          <p:nvPr/>
        </p:nvSpPr>
        <p:spPr>
          <a:xfrm>
            <a:off x="5271120" y="6426360"/>
            <a:ext cx="1021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Lucida Handwriting"/>
              </a:rPr>
              <a:t>DAVID MORR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05760" y="6458040"/>
            <a:ext cx="6724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78600" y="892476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820880" y="4992840"/>
            <a:ext cx="1760400" cy="1028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56960" y="5235480"/>
            <a:ext cx="135684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52520" y="504720"/>
            <a:ext cx="4643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S PAYABLE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CCOUNTS PAYABLE  VOUCHERS FOR 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3160" y="1190520"/>
            <a:ext cx="5893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UATION:  Given contractual documents, you must prepare vouchers for pa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update the Bills Register Card based on the documentation prov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6120" y="1800360"/>
            <a:ext cx="2063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INFORM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56840" y="2104920"/>
            <a:ext cx="375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BURSING OFFICER:  WALTER CORY, LTC, 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2960" y="2409840"/>
            <a:ext cx="3197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D BY BLOCK:  23d Finance Batta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 Stewart, GA. 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SN:  63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0080" y="3324240"/>
            <a:ext cx="2127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DATE:  28 June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1160" y="3705120"/>
            <a:ext cx="2601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 PENALTY RATE:  8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8200" y="4010040"/>
            <a:ext cx="4114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 ACCOUNTING CLASSIFIC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*2020  76-9505  117096.ZO-43AJ  SDN#/APC  S090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11160" y="4916520"/>
            <a:ext cx="5124600" cy="2355840"/>
            <a:chOff x="911160" y="4916520"/>
            <a:chExt cx="5124600" cy="2355840"/>
          </a:xfrm>
        </p:grpSpPr>
        <p:sp>
          <p:nvSpPr>
            <p:cNvPr id="62" name=""/>
            <p:cNvSpPr/>
            <p:nvPr/>
          </p:nvSpPr>
          <p:spPr>
            <a:xfrm>
              <a:off x="920880" y="4916520"/>
              <a:ext cx="5092560" cy="2355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20880" y="5214960"/>
              <a:ext cx="509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1160" y="5546880"/>
              <a:ext cx="509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8160" y="5894280"/>
              <a:ext cx="507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6080" y="6210360"/>
              <a:ext cx="50641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19080" y="6561000"/>
              <a:ext cx="509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661760" y="5221440"/>
              <a:ext cx="20520" cy="20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33600" y="5211720"/>
              <a:ext cx="6480" cy="206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87800" y="5210280"/>
              <a:ext cx="7920" cy="20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44880" y="5221440"/>
              <a:ext cx="4680" cy="167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4662360" y="5227560"/>
              <a:ext cx="15840" cy="16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98920" y="5221440"/>
              <a:ext cx="6480" cy="167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55600" y="4957920"/>
              <a:ext cx="716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ULY *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18080" y="6986520"/>
              <a:ext cx="1726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VE A GREAT 4TH!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45880" y="529740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90720" y="5297400"/>
              <a:ext cx="307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70120" y="5297400"/>
              <a:ext cx="27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14960" y="5297400"/>
              <a:ext cx="324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52960" y="5297400"/>
              <a:ext cx="27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21200" y="5297400"/>
              <a:ext cx="274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65240" y="529740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69280" y="56437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62800" y="59659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09880" y="629460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18440" y="56437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24920" y="59659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72000" y="629460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93160" y="56437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51400" y="596592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51400" y="629460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13160" y="629460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16600" y="629460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78720" y="629460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46880" y="629460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46880" y="596592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78720" y="596592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6600" y="596592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3160" y="596592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37640" y="56437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69520" y="56437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20480" y="56437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82520" y="56437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42840" y="6900840"/>
              <a:ext cx="509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09880" y="66340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09880" y="69976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2000" y="66340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2000" y="69976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51400" y="66340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51400" y="69976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13160" y="66340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16600" y="66340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78720" y="66340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46880" y="66340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490560" y="852804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360" y="7515360"/>
            <a:ext cx="5989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 TO INSTRUCTOR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 EACH STUDENT A WORKBOOK, SUPP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NOT TO BE WRITTEN  IN  AND  PAYMENT DUE DATE SHEETS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554040" y="293760"/>
            <a:ext cx="3683160" cy="273672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89520" y="255600"/>
            <a:ext cx="84024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344840" y="474840"/>
            <a:ext cx="2006640" cy="130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4344840" y="736560"/>
            <a:ext cx="199548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357800" y="1079280"/>
            <a:ext cx="1984320" cy="1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51320" y="1422360"/>
            <a:ext cx="1994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20000" y="506520"/>
            <a:ext cx="1353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  3476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363560" y="746280"/>
            <a:ext cx="77292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059080" y="852480"/>
            <a:ext cx="87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 JUNE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60400" y="1198440"/>
            <a:ext cx="15364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RMS:  2/20, Net 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327560" y="1428840"/>
            <a:ext cx="8082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MBE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58720" y="1428840"/>
            <a:ext cx="130032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FI01-**-C-08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. O. #000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459320" y="1913040"/>
            <a:ext cx="17398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285200" y="404640"/>
            <a:ext cx="2371680" cy="67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CME PARTS AND SUPPL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011 MAIN STRE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AXTON, GA  304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33280" y="1341360"/>
            <a:ext cx="2104920" cy="74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0840" y="1571760"/>
            <a:ext cx="54432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887640" y="1934640"/>
            <a:ext cx="263520" cy="289080"/>
            <a:chOff x="3887640" y="1934640"/>
            <a:chExt cx="263520" cy="289080"/>
          </a:xfrm>
        </p:grpSpPr>
        <p:sp>
          <p:nvSpPr>
            <p:cNvPr id="613" name=""/>
            <p:cNvSpPr/>
            <p:nvPr/>
          </p:nvSpPr>
          <p:spPr>
            <a:xfrm flipV="1">
              <a:off x="4151160" y="193464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87640" y="2215440"/>
              <a:ext cx="25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49440" y="1934640"/>
            <a:ext cx="280800" cy="289080"/>
            <a:chOff x="649440" y="1934640"/>
            <a:chExt cx="280800" cy="289080"/>
          </a:xfrm>
        </p:grpSpPr>
        <p:sp>
          <p:nvSpPr>
            <p:cNvPr id="616" name=""/>
            <p:cNvSpPr/>
            <p:nvPr/>
          </p:nvSpPr>
          <p:spPr>
            <a:xfrm flipV="1">
              <a:off x="654840" y="193464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49440" y="221544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887640" y="1258920"/>
            <a:ext cx="263520" cy="272520"/>
            <a:chOff x="3887640" y="1258920"/>
            <a:chExt cx="263520" cy="272520"/>
          </a:xfrm>
        </p:grpSpPr>
        <p:sp>
          <p:nvSpPr>
            <p:cNvPr id="619" name=""/>
            <p:cNvSpPr/>
            <p:nvPr/>
          </p:nvSpPr>
          <p:spPr>
            <a:xfrm>
              <a:off x="4151160" y="1267560"/>
              <a:ext cx="0" cy="26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87640" y="1258920"/>
              <a:ext cx="25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1128240" y="2452680"/>
            <a:ext cx="2926440" cy="41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3D MED SPT BN &amp; 1/91ST MECH INF DI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1200" y="2489040"/>
            <a:ext cx="4896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42880" y="3532320"/>
            <a:ext cx="577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42880" y="3857760"/>
            <a:ext cx="577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7200" y="3575160"/>
            <a:ext cx="571392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EM           DESCRIPTION        QUANTITY   UNIT      PRICE       AMOU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0360" y="3963960"/>
            <a:ext cx="254880" cy="278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179720" y="3963960"/>
            <a:ext cx="1553400" cy="278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ires, Uniroyal, 15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020120" y="3963960"/>
            <a:ext cx="383040" cy="278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29520" y="3963960"/>
            <a:ext cx="894960" cy="278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2,3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31880" y="435456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31880" y="4740120"/>
            <a:ext cx="218880" cy="2620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31880" y="5140440"/>
            <a:ext cx="218880" cy="2617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880" y="5548320"/>
            <a:ext cx="218880" cy="260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185840" y="4354560"/>
            <a:ext cx="1670040" cy="270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185840" y="4732200"/>
            <a:ext cx="1670040" cy="270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85840" y="5114880"/>
            <a:ext cx="1670040" cy="270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85840" y="5530680"/>
            <a:ext cx="1670040" cy="270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052800" y="3975120"/>
            <a:ext cx="727200" cy="26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52800" y="435276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52800" y="473220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52800" y="511488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52800" y="5530680"/>
            <a:ext cx="72720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230640" y="3995640"/>
            <a:ext cx="34632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040280" y="4352760"/>
            <a:ext cx="366480" cy="255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040280" y="4732200"/>
            <a:ext cx="366480" cy="255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40280" y="5114880"/>
            <a:ext cx="366480" cy="255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0280" y="5530680"/>
            <a:ext cx="366480" cy="2556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64080" y="4352760"/>
            <a:ext cx="758880" cy="274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4080" y="4732200"/>
            <a:ext cx="750960" cy="274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564080" y="5114880"/>
            <a:ext cx="744480" cy="274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564080" y="5530680"/>
            <a:ext cx="744480" cy="2732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48240" y="4352760"/>
            <a:ext cx="83844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48240" y="4732200"/>
            <a:ext cx="83844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48240" y="5114880"/>
            <a:ext cx="83844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48240" y="5530680"/>
            <a:ext cx="838440" cy="265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076400" y="3538440"/>
            <a:ext cx="0" cy="23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3900240" y="3538440"/>
            <a:ext cx="12600" cy="236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68680" y="3537000"/>
            <a:ext cx="1800" cy="237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378400" y="3538440"/>
            <a:ext cx="0" cy="236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949480" y="3538440"/>
            <a:ext cx="4680" cy="236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4040" y="5929200"/>
            <a:ext cx="574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05280" y="6032520"/>
            <a:ext cx="1468440" cy="22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381640" y="6032520"/>
            <a:ext cx="930240" cy="222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33360" y="6016680"/>
            <a:ext cx="113256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9520" y="6016680"/>
            <a:ext cx="89496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4,218.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410280" y="865980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649440" y="1262160"/>
            <a:ext cx="280800" cy="267840"/>
            <a:chOff x="649440" y="1262160"/>
            <a:chExt cx="280800" cy="267840"/>
          </a:xfrm>
        </p:grpSpPr>
        <p:sp>
          <p:nvSpPr>
            <p:cNvPr id="668" name=""/>
            <p:cNvSpPr/>
            <p:nvPr/>
          </p:nvSpPr>
          <p:spPr>
            <a:xfrm>
              <a:off x="654840" y="1265040"/>
              <a:ext cx="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49440" y="1262160"/>
              <a:ext cx="28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720360" y="4379760"/>
            <a:ext cx="2548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164240" y="4379760"/>
            <a:ext cx="15166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diator, #5129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30640" y="4379760"/>
            <a:ext cx="34632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555800" y="4379760"/>
            <a:ext cx="75780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  52.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429520" y="4379760"/>
            <a:ext cx="89496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   521.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020120" y="4379760"/>
            <a:ext cx="383040" cy="278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20120" y="4732200"/>
            <a:ext cx="383040" cy="278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020120" y="5141880"/>
            <a:ext cx="383040" cy="278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20360" y="4732200"/>
            <a:ext cx="2548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63880" y="4732200"/>
            <a:ext cx="18550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haust Pipes, #5234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30640" y="4732200"/>
            <a:ext cx="34632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55800" y="4732200"/>
            <a:ext cx="75780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  24.8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429520" y="4732200"/>
            <a:ext cx="894960" cy="278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   497.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429520" y="5141880"/>
            <a:ext cx="894960" cy="278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   9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55800" y="5141880"/>
            <a:ext cx="75780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  45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30640" y="5141880"/>
            <a:ext cx="34632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63880" y="5141880"/>
            <a:ext cx="155340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ires, Uniroyal, 16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20360" y="5141880"/>
            <a:ext cx="2548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543200" y="3963960"/>
            <a:ext cx="803520" cy="278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  46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846680" y="2152800"/>
            <a:ext cx="1601640" cy="958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877640" y="2317680"/>
            <a:ext cx="16218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 JUN *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348640" y="657360"/>
            <a:ext cx="2173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 PRIC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4200" y="1190520"/>
            <a:ext cx="565560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UATION:  You are a voucher examiner assigned to the Accounts Pay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ch of the Operating Location at Fort Stewart, GA.  You have receiv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ocu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SF 33, Con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DD Form 250, Receiving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Vendors’ Invo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MENT:  You must prepare the payment vouchers for the fixed pri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s based on the supporting documents listed above, then, update the B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er C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14240" y="86043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-104760" y="0"/>
          <a:ext cx="70596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4133880" y="6485040"/>
            <a:ext cx="9694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Lucida Handwriting"/>
              </a:rPr>
              <a:t>JOHN MART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24360" y="5114880"/>
            <a:ext cx="392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5080" y="8163000"/>
            <a:ext cx="923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3520" y="8924760"/>
            <a:ext cx="227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71880" y="1044720"/>
            <a:ext cx="1670040" cy="542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0760" y="1090440"/>
            <a:ext cx="135684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 MAY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33160" y="650880"/>
            <a:ext cx="189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ATION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77680" y="650880"/>
            <a:ext cx="96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 of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6520" y="1031760"/>
            <a:ext cx="502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Star Electronics Inc., 1050 East Street, Richmond Hill, GA  313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9040" y="141300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FI01-**-C-7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8640" y="1946160"/>
            <a:ext cx="6224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NO.            SUPPLIES/SERVICES              QTY         UNIT       PRICE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91120" y="1793880"/>
            <a:ext cx="53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7360" y="2139840"/>
            <a:ext cx="631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3560" y="2403360"/>
            <a:ext cx="612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1            Computers, IBM CPU 486DX           5              ea       2,000.00   $10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14240" y="85215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-104760" y="0"/>
          <a:ext cx="70596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418280" y="6462720"/>
            <a:ext cx="546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 J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25760" y="6985080"/>
            <a:ext cx="6328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S, P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75360" y="6431040"/>
            <a:ext cx="8539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PAUL ELLI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0640" y="8854920"/>
            <a:ext cx="227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4280" y="5062680"/>
            <a:ext cx="1598400" cy="612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97120" y="5108400"/>
            <a:ext cx="186048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1360" y="324000"/>
            <a:ext cx="4173480" cy="300960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83920" y="281160"/>
            <a:ext cx="91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437000" y="522360"/>
            <a:ext cx="2303640" cy="1503360"/>
            <a:chOff x="4437000" y="522360"/>
            <a:chExt cx="2303640" cy="1503360"/>
          </a:xfrm>
        </p:grpSpPr>
        <p:sp>
          <p:nvSpPr>
            <p:cNvPr id="153" name=""/>
            <p:cNvSpPr/>
            <p:nvPr/>
          </p:nvSpPr>
          <p:spPr>
            <a:xfrm>
              <a:off x="4467240" y="522360"/>
              <a:ext cx="2273400" cy="14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467240" y="809640"/>
              <a:ext cx="22622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481640" y="1187280"/>
              <a:ext cx="224928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73720" y="1565280"/>
              <a:ext cx="2260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37000" y="557280"/>
              <a:ext cx="1396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:  2156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92800" y="820800"/>
              <a:ext cx="8445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O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76160" y="938160"/>
              <a:ext cx="954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 JUNE *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01160" y="1319040"/>
              <a:ext cx="1550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RMS:  2/10, N/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46000" y="1571760"/>
              <a:ext cx="8841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4720" y="1700280"/>
              <a:ext cx="14205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FI01-**-C-7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597560" y="2103480"/>
            <a:ext cx="1971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57600" y="409680"/>
            <a:ext cx="2583360" cy="72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TH STAR  ELECTRO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50 EAST STR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CHMOND HILL, GA  313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21880" y="1476360"/>
            <a:ext cx="2302920" cy="81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NG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N:  ACCOUNTS PAY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 STEWART, GA  31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4280" y="1728720"/>
            <a:ext cx="597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949560" y="2128680"/>
            <a:ext cx="298440" cy="317520"/>
            <a:chOff x="3949560" y="2128680"/>
            <a:chExt cx="298440" cy="317520"/>
          </a:xfrm>
        </p:grpSpPr>
        <p:sp>
          <p:nvSpPr>
            <p:cNvPr id="168" name=""/>
            <p:cNvSpPr/>
            <p:nvPr/>
          </p:nvSpPr>
          <p:spPr>
            <a:xfrm flipV="1">
              <a:off x="4248000" y="2128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9560" y="2436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9360" y="2128680"/>
            <a:ext cx="317520" cy="317520"/>
            <a:chOff x="279360" y="2128680"/>
            <a:chExt cx="317520" cy="317520"/>
          </a:xfrm>
        </p:grpSpPr>
        <p:sp>
          <p:nvSpPr>
            <p:cNvPr id="171" name=""/>
            <p:cNvSpPr/>
            <p:nvPr/>
          </p:nvSpPr>
          <p:spPr>
            <a:xfrm flipV="1">
              <a:off x="285840" y="2128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79360" y="24368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949560" y="1384200"/>
            <a:ext cx="298440" cy="301680"/>
            <a:chOff x="3949560" y="1384200"/>
            <a:chExt cx="298440" cy="301680"/>
          </a:xfrm>
        </p:grpSpPr>
        <p:sp>
          <p:nvSpPr>
            <p:cNvPr id="174" name=""/>
            <p:cNvSpPr/>
            <p:nvPr/>
          </p:nvSpPr>
          <p:spPr>
            <a:xfrm>
              <a:off x="4248000" y="13939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49560" y="1384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824400" y="2546280"/>
            <a:ext cx="3264480" cy="63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OR, INFORMATION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DG 609, ATTN: MR. KENNE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 STEWART, GA  31314-98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4640" y="2679840"/>
            <a:ext cx="538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8760" y="388620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8760" y="42433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7080" y="3932280"/>
            <a:ext cx="6562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           DESCRIPTION           QUANTITY     UNIT      PRICE        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0000" y="4361040"/>
            <a:ext cx="28044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89560" y="4361040"/>
            <a:ext cx="189612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s, IBM 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0120" y="4361040"/>
            <a:ext cx="41904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0880" y="4361040"/>
            <a:ext cx="87624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90880" y="4361040"/>
            <a:ext cx="975600" cy="3020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4,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1520" y="4789440"/>
            <a:ext cx="249120" cy="287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1520" y="5214960"/>
            <a:ext cx="249120" cy="287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1520" y="5654520"/>
            <a:ext cx="249120" cy="28764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1520" y="6102360"/>
            <a:ext cx="249120" cy="287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5040" y="4789440"/>
            <a:ext cx="1892160" cy="297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5040" y="5205240"/>
            <a:ext cx="1892160" cy="297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05040" y="5626080"/>
            <a:ext cx="1892160" cy="297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05040" y="6083280"/>
            <a:ext cx="1892160" cy="2970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02040" y="4371840"/>
            <a:ext cx="825480" cy="292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02040" y="4788000"/>
            <a:ext cx="82548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02040" y="5205240"/>
            <a:ext cx="825480" cy="292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02040" y="5626080"/>
            <a:ext cx="82548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02040" y="6083280"/>
            <a:ext cx="82548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55480" y="43671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21280" y="4788000"/>
            <a:ext cx="415800" cy="28080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21280" y="5205240"/>
            <a:ext cx="415800" cy="281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21280" y="5626080"/>
            <a:ext cx="415800" cy="281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21280" y="6083280"/>
            <a:ext cx="415800" cy="2811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14920" y="4788000"/>
            <a:ext cx="860400" cy="301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14920" y="5205240"/>
            <a:ext cx="850680" cy="301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14920" y="5626080"/>
            <a:ext cx="844560" cy="301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14920" y="6083280"/>
            <a:ext cx="844560" cy="3016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8240" y="4788000"/>
            <a:ext cx="94932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8240" y="5205240"/>
            <a:ext cx="949320" cy="29232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8240" y="5626080"/>
            <a:ext cx="94932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18240" y="6083280"/>
            <a:ext cx="949320" cy="29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3892680"/>
            <a:ext cx="0" cy="261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963960" y="3892680"/>
            <a:ext cx="14400" cy="26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06920" y="3890880"/>
            <a:ext cx="3240" cy="261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38680" y="3892680"/>
            <a:ext cx="0" cy="26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86120" y="3892680"/>
            <a:ext cx="4680" cy="26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1360" y="6523200"/>
            <a:ext cx="651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8640" y="6635880"/>
            <a:ext cx="16639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41920" y="6635880"/>
            <a:ext cx="1054080" cy="2444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97440" y="6618240"/>
            <a:ext cx="1230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U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90880" y="6618240"/>
            <a:ext cx="975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4,00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08120" y="859788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1387440"/>
            <a:ext cx="317520" cy="295200"/>
            <a:chOff x="279360" y="1387440"/>
            <a:chExt cx="317520" cy="295200"/>
          </a:xfrm>
        </p:grpSpPr>
        <p:sp>
          <p:nvSpPr>
            <p:cNvPr id="224" name=""/>
            <p:cNvSpPr/>
            <p:nvPr/>
          </p:nvSpPr>
          <p:spPr>
            <a:xfrm>
              <a:off x="285840" y="1390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79360" y="13874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883040" y="2444760"/>
            <a:ext cx="1663920" cy="749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80320" y="2548080"/>
            <a:ext cx="14997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 JUN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-104760" y="0"/>
          <a:ext cx="7059600" cy="913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27880" y="8928000"/>
            <a:ext cx="5908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3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42240" y="8924760"/>
            <a:ext cx="227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8T10:59:32Z</dcterms:created>
  <dc:creator>Soldier Support Institute</dc:creator>
  <dc:description/>
  <dc:language>en-US</dc:language>
  <cp:lastModifiedBy>Administrator</cp:lastModifiedBy>
  <cp:lastPrinted>2000-08-08T17:15:54Z</cp:lastPrinted>
  <dcterms:modified xsi:type="dcterms:W3CDTF">2004-10-25T19:34:10Z</dcterms:modified>
  <cp:revision>27</cp:revision>
  <dc:subject/>
  <dc:title>STUDENT INSTRUCTIONS</dc:title>
</cp:coreProperties>
</file>